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F5C2F6-9ABA-4F8F-BC89-DBE5A2325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esson is about 9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2107EE-56BB-466F-AF1E-B4E8CCE180B1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: What is it? A tweet  Who wrote it? Hazel Healy  Did she write the article?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1998D1-105F-44E1-AE5C-3F1817CF287E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rify/elicit the nature of a tweet – 140 characters maximum. Students can write on slips to pass around, or onto the board(s) or flipchart paper and share and cor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052629-7B9F-4D8E-8344-14409C520BAC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 1) drowned  2) capsize  3)  dissuaded   4)  attempting  5) high (winds)  6) rough (seas)  7) 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C13A82-B8CA-4A9C-8F91-80B5A98B53AF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cut up words/phrases and definitions and get learners, in groups, to discuss and match. Or do this to the screen, or handou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 1/f   2/b   3/i   4/d   5/e   6/h  7/g  8/a   9/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0ED487-8EA1-4BC9-B948-28C086119EB9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Refugee crisis in Lesbos gets worse as winter 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A789D9-304F-47EF-B1B0-CA715FFA6000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ugees in Lesbos wanting to escape to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032173-F86E-4FC7-8BDB-BA6B2680BF8E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predict answers in pairs and then read to check KEY: 1) Yes  2) Yes  3) Yes  4) Yes  5) No  6)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51F330-4337-42B3-BAE2-9620AB9E1077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1) Yes  2) Yes  3)  No  4) Yes   5) 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A325FB-DF5E-473F-997F-BE6C603BC690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BF6B-E300-4452-B752-F1F89BA8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270-3145-40B4-9828-01F0F958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EE37-7527-46C6-AE83-86292DD9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7C1-F607-4830-9C54-3A7CE04C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D910-0AC1-4531-BFE4-48EAC743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D979-F96D-4308-B645-4E99B7BA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416B-9A89-4556-982B-2465E1F2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41DE-E5FE-49A1-9C8B-75927059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97AE-5963-48DB-BEB2-97B8D491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B515-9E75-42AE-B7F6-3ACC2DA1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198C-7181-4D09-B055-DA25C139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2F2D-6F0F-4E5F-88AE-32AA8EC7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0291-EF3C-4D9A-B0D2-9959ABC1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F8EE-600C-40DB-95F0-6AC21559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19C7-679C-4A66-8C1F-D0A0CB2A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D89A-1DE0-4A91-9B52-EA5956F4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9B02-6967-4F79-BE62-1EEAA3E7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09D60-A0E3-4045-BC98-8E2E233B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0BB62-90A4-4287-B7AA-F8FE7DDA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A35D7-4828-4785-841D-C20C29FE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4EBF4-3312-4F2B-A8EE-28D8072E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905C9-3E5E-4ECA-9F5C-85B620C7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F292-0FF5-4EE8-9CB9-D9D14E97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3DFE6-B8F3-43EB-B743-875D095A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FC6DB-68F2-4063-8D7F-B055A930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3E61C-2566-4D4E-B832-E17BB78E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E4EFB-E25F-47F8-9272-D0F2EA31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4B911-908C-4D23-80CF-7D2E03A7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D7FD7-585B-48C2-BBB3-BE1D4D8C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B02D7-9AC5-4D17-82DE-FF53CB8B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A34DD-D38A-4825-9632-8768C5AA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A5A06-7F52-4953-9C3F-4F74CE5A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4C99E-42AD-44A6-88FA-C3CC3050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7F3-DCA3-4666-8623-031FD73A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D9454-4EDC-4E52-A578-32A2D4EE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C28DB-8F59-4580-A825-6878AA4B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E4B23-617D-4269-BCAF-F96BF327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D4F4B-53C6-4501-AA7B-889A9D92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4A0F9-3E3B-42A8-9778-34E4C1A1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70496-43FB-46AF-836D-E83657EE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DC814-768A-4D45-A8C6-36F9A607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7342A-5F50-4787-A83A-D4499B10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B676D-742F-45B3-8C2F-4E7F2B7C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9C25-CABD-43B7-871C-838E01D5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CA7C-DB97-4D7B-9879-8ADA6451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2CB-0861-4CDC-9E62-C51F7D66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FEC-3998-4F62-A368-BB4A3E2C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93AD-1B83-4CE9-9B42-3A42B37A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FD29D4-B7D9-4D48-A794-8E4E3081CB4E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E0835B-3107-4D15-BF94-85565291BEDD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389E7E-6099-41DC-9ECF-05A55B4E3BCA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01E83E-839B-4273-B7F9-C7897A894D66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newint.org/blog/2015/11/04/refugee-crisis-worsens-in-lesbos-as-winter-looms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827820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Ref                           </a:t>
            </a: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Refugees in</a:t>
            </a:r>
            <a:br>
              <a:rPr sz="6000"/>
            </a:b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                   Lesb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-Intermediat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Internationalis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sier English ready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3949200" y="148680"/>
            <a:ext cx="5175000" cy="1292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395640" y="1333800"/>
            <a:ext cx="4334400" cy="288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we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Hazel He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                    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@hazel_h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rst night on Lesbos. Arrived and  heard a ship sank, hundreds of refugees died in the se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755640" y="1484640"/>
            <a:ext cx="1616760" cy="16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we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en-GB" sz="4800" spc="-1" strike="noStrike">
                <a:solidFill>
                  <a:srgbClr val="1f497d"/>
                </a:solidFill>
                <a:latin typeface="Calibri"/>
              </a:rPr>
              <a:t>Write a tweet about the situation in Lesbos to the head of your government. A tweet can only be 140 characters at mos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5940000" y="332640"/>
            <a:ext cx="1804680" cy="120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indent="0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Read the original article and find words which me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died in the sea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when boats turn over in the sea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advised not to do something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trying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strong (winds)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dangerous (seas)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route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ewint.org/blog/2015/11/04/refugee-crisis-worsens-in-lesbos-as-winter-loom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6300360" y="3861000"/>
            <a:ext cx="1810800" cy="120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oday’s less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1f497d"/>
              </a:buClr>
              <a:buFont typeface="Arial"/>
              <a:buChar char="•"/>
            </a:pPr>
            <a:r>
              <a:rPr b="1" lang="en-GB" sz="7200" spc="-1" strike="noStrike">
                <a:solidFill>
                  <a:srgbClr val="1f497d"/>
                </a:solidFill>
                <a:latin typeface="Calibri"/>
              </a:rPr>
              <a:t>Vocabulary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1f497d"/>
              </a:buClr>
              <a:buFont typeface="Arial"/>
              <a:buChar char="•"/>
            </a:pPr>
            <a:r>
              <a:rPr b="1" lang="en-GB" sz="7200" spc="-1" strike="noStrike">
                <a:solidFill>
                  <a:srgbClr val="1f497d"/>
                </a:solidFill>
                <a:latin typeface="Calibri"/>
              </a:rPr>
              <a:t>Readi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1f497d"/>
              </a:buClr>
              <a:buFont typeface="Arial"/>
              <a:buChar char="•"/>
            </a:pPr>
            <a:r>
              <a:rPr b="1" lang="en-GB" sz="7200" spc="-1" strike="noStrike">
                <a:solidFill>
                  <a:srgbClr val="1f497d"/>
                </a:solidFill>
                <a:latin typeface="Calibri"/>
              </a:rPr>
              <a:t>Writi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5652000" y="1484640"/>
            <a:ext cx="294120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640" y="116640"/>
            <a:ext cx="2592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Mat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302400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1/ refug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2/ resc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3/ equi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4/ urg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5/ 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6/ impro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7/ leg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8/ sa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9/ rou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915640" y="116640"/>
            <a:ext cx="6228000" cy="674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a)  opposite of danger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b)  help someone from a danger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sit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c)  way to go from one place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an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d)  very, ver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e)  look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AutoNum type="alphaLcParenR" startAt="6"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person who wants to go to another country because of dang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g)   Ok with the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h)   get b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i)    machin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00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ut the headline in the right 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worse 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winter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a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Refugee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Lesbo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crisi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in 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get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comes.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55200" y="1630800"/>
            <a:ext cx="259488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o are they? Where are they? Why are they t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222200" y="1700640"/>
            <a:ext cx="6818760" cy="45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at do you thin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7640" y="1388880"/>
            <a:ext cx="822924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1 A woman wrote the article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2 There are  refugees  in Lesbos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3 Lesbos is in Greece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4 Lesbos is an island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5 Lesbos is 100 km from Turkey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6 60 refugees died in 5 days. Possibl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ow read and check your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271440" y="131400"/>
            <a:ext cx="180468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364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In the 5 days Hazel was on Lesbos, she heard  more than 60 people died in the Aegean Sea trying to get to Europe. About half of these were children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Refugees have not stopped crossing the dangerous 10km of water from Turkey because of bad winter weather. More of them are crossing now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There are strong winds and rough seas. The rescue boats do not have enough money or equipment. So many refugee boats often do not get across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ad again and find the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1268640"/>
            <a:ext cx="8229240" cy="511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1 About 30 children died in the sea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2 The weather is a big problem for the boats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3 The boats are in good condition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4 Most of the refugees on their way to Euro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died in October this year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5 Countries must make it easier for refug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to go to Europe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6588360" y="5373360"/>
            <a:ext cx="180468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e 5 days Hazel was on Lesbos, more than 60 people died in the Aegean Sea trying to get to Europe. About half of these were child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fugees have not stopped crossing the dangerous 10km of water from Turkey because of bad winter weather. More of them are crossing n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re are strong winds and rough seas. The rescue boats do not have enough money or equipment. So many refugee boats often do not get acro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undreds of people have died trying to get to Europe this year, half of them in October. The United Nations High Commissioner for Refugees said it is urgent for search-and-rescue to improve. He says countries must make more legal, safe routes for refugees to get to Eur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  <Words>794</Words>
  <Paragraphs>10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1T14:21:53Z</dcterms:created>
  <dc:creator>windows 7 image</dc:creator>
  <dc:description/>
  <dc:language>en-US</dc:language>
  <cp:lastModifiedBy>Linda Ruas</cp:lastModifiedBy>
  <dcterms:modified xsi:type="dcterms:W3CDTF">2015-12-02T19:38:42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On-screen Show (4:3)</vt:lpwstr>
  </property>
  <property fmtid="{D5CDD505-2E9C-101B-9397-08002B2CF9AE}" pid="4" name="Slides">
    <vt:r8>12</vt:r8>
  </property>
</Properties>
</file>